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F24-5E26-4FA9-AEB1-E0DCE128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4BEC-C6BD-43E9-9D85-81DD6AB7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C6A1-6040-4F44-8C6E-7710B392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B73A-5E52-42C8-B7E1-2D0BC0AB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0C42-F20C-4889-BE30-F680CB369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CE5C-37D2-40CC-B9D3-33F0303D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EAD6-D3E2-47E8-AB28-962F00D2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CD37-54B3-4D8C-B47A-05224D12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7CBD-E6D9-4D8C-B70B-02B7A1ED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1D73-606C-4B23-9753-A93E576E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F0B8-371E-4C02-86B4-DFC5AFBA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29AA-E00A-46CD-BDCC-075DA4C9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933C-4ED1-4BF7-AE75-B19442EE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2F82-82F6-4FDB-983E-F666849E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3F6B-0371-4713-BC96-1F07CC14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FE65-E3ED-4E55-AC99-02C5711D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A685-9F19-4AEE-9024-CA135D89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D0D0-2678-4117-B4D9-CCA226DC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31C2-9755-4576-9365-3D564C0F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61C-B69B-4BBD-B46F-9978D6E8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9346-4FED-4DFF-B719-C483413F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B023-7E91-4AC5-910E-590222BB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861-FF71-4251-821D-1E34FA3F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54E5-A6E3-4626-8DBB-D9BA5746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(c 2015 SAGE Publication, In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4B98-914E-46B9-9666-A858E1B6287F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(c 2015 SAGE Publication, In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8302-DF8B-4E46-B535-49D10DA40DBE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231840" y="993600"/>
            <a:ext cx="8875800" cy="2749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Footer Placeholder 1"/>
          <p:cNvSpPr/>
          <p:nvPr/>
        </p:nvSpPr>
        <p:spPr>
          <a:xfrm>
            <a:off x="3124080" y="641664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nderstanding the Terrorist Thre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ort Security Initiatives and Priorit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Footer Placeholder 1"/>
          <p:cNvSpPr/>
          <p:nvPr/>
        </p:nvSpPr>
        <p:spPr>
          <a:xfrm>
            <a:off x="3124080" y="6416640"/>
            <a:ext cx="358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77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Understanding the Terrorist Thre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BRN Explosive Devic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errorist Strategic Priorities and Maritime Target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ntagion Effec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se in Point: Maritime Cargo Contain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31240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77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Port Security Initiatives and Priorit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mplexity of Port Infrastructure Compone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002 Container Security Initiativ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3124080" y="6416640"/>
            <a:ext cx="32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2" descr=""/>
          <p:cNvPicPr/>
          <p:nvPr/>
        </p:nvPicPr>
        <p:blipFill>
          <a:blip r:embed="rId1"/>
          <a:stretch/>
        </p:blipFill>
        <p:spPr>
          <a:xfrm>
            <a:off x="298440" y="493560"/>
            <a:ext cx="8388360" cy="1335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301680" y="2057040"/>
            <a:ext cx="854064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ad00"/>
                </a:solidFill>
                <a:latin typeface="Book Antiqua"/>
              </a:rPr>
              <a:t>Porous Nodes</a:t>
            </a:r>
            <a:endParaRPr b="0" lang="en-US" sz="6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ad00"/>
                </a:solidFill>
                <a:latin typeface="Book Antiqua"/>
              </a:rPr>
              <a:t>Specific Vulnerabilitie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Footer Placeholder 1"/>
          <p:cNvSpPr/>
          <p:nvPr/>
        </p:nvSpPr>
        <p:spPr>
          <a:xfrm>
            <a:off x="31240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95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ndocumented Immigration and Border Secur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lausible Scenarios: Crime an Insecurity on the Southern Bord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Footer Placeholder 1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6480" y="85680"/>
            <a:ext cx="9131040" cy="1554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0" y="19047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Undocumented Immigration and Border Secur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Immigration Debat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untervailing Posi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meland Security Context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Footer Placeholder 1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0" y="22536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Plausible Scenarios: Crime and Insecurity on the Southern Bord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se in Point: The Tri-Border Area of South Americ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se in Point: The Mexican Drug Wa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Footer Placeholder 1"/>
          <p:cNvSpPr/>
          <p:nvPr/>
        </p:nvSpPr>
        <p:spPr>
          <a:xfrm>
            <a:off x="3124080" y="6416640"/>
            <a:ext cx="32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03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205704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ymbolic Value: Airline Attacks and Maximum Propaganda Effec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Complexity of Aviation Secur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mplementing Aviation Security Priorit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Footer Placeholder 1"/>
          <p:cNvSpPr/>
          <p:nvPr/>
        </p:nvSpPr>
        <p:spPr>
          <a:xfrm>
            <a:off x="3124080" y="6416640"/>
            <a:ext cx="3657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0" y="22536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Symbolic Value: Airline Attacks and Maximum Propaganda Effec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vailable Weapons for Use Against Aircraft and Termina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se in Point: The PFLP and the Origin of Modern Aviation Terroris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se: Northwest Airlines Flight 253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Footer Placeholder 1"/>
          <p:cNvSpPr/>
          <p:nvPr/>
        </p:nvSpPr>
        <p:spPr>
          <a:xfrm>
            <a:off x="3124080" y="6416640"/>
            <a:ext cx="342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2" descr=""/>
          <p:cNvPicPr/>
          <p:nvPr/>
        </p:nvPicPr>
        <p:blipFill>
          <a:blip r:embed="rId1"/>
          <a:stretch/>
        </p:blipFill>
        <p:spPr>
          <a:xfrm>
            <a:off x="0" y="22536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The Complexity of Aviation Secur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003 National Strategy for Aviation Secur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Problem of Reactive Plann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essons From September 11, 2001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nique Protection Challenges for Avi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3124080" y="641664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0" y="22536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Implementing Aviation Security Priorit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llaborative Aviation Protection Initiativ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viation and Transportation Security Act of 2001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ichard Reid the Shoe Bomb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se in Point: The Chemical Plot and 3-1-1 Ru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Footer Placeholder 1"/>
          <p:cNvSpPr/>
          <p:nvPr/>
        </p:nvSpPr>
        <p:spPr>
          <a:xfrm>
            <a:off x="3124080" y="641664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8:52:59Z</dcterms:created>
  <dc:creator>gmartin</dc:creator>
  <dc:description/>
  <dc:language>en-US</dc:language>
  <cp:lastModifiedBy>Julie Griffin</cp:lastModifiedBy>
  <dcterms:modified xsi:type="dcterms:W3CDTF">2014-06-30T23:49:47Z</dcterms:modified>
  <cp:revision>131</cp:revision>
  <dc:subject/>
  <dc:title>Slide 1</dc:title>
</cp:coreProperties>
</file>